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D6DD-C48E-4BA4-96CE-E66782CFE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2E35-F02D-43EB-866B-3A54DBFF1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0EED-D1F7-42B4-A3B4-27963BA28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54CF-8CA9-485F-B4D3-9EA127171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6D688-232B-4234-87B3-5798EB018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3F31C-3F1E-41BB-8DE7-4C8693AB3C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D5CF2-86DF-4D62-99E0-17810B4F41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B44C3-CF27-4A93-8C53-C274119F32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73FC6-4EAB-48A0-AE0F-8CE028AC5B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DCF9-5F10-4B85-9FBC-26816140B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E6B6F-644B-4523-A972-B651A0197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2100-99F1-4186-AEC0-BF67BE7EB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B796-AB3B-4947-808C-FB06D63F4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1716B-3D59-4CC0-A4F5-B1661810BF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DDB69-BFBB-4CBD-A5D2-C2BF256201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DD95B-1BC8-448E-ACAC-1D23D9DFCD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9E87-4A3D-43F5-8D2A-3A8408406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0E28-0721-4B3A-B548-433DDEA00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596E-92EB-4240-BA73-B4720F226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0BA9-D2DF-4F62-A4FF-4E196D06B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2CE9-9744-458E-B3EC-6785CF333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71C7-1CFD-49B1-8227-57D2E4EC3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D065-98A2-4C79-80B5-E2AAA8D05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DC3C-4443-4286-AD11-8D369D009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30387FB-3F54-443C-A10B-4D613DC3F3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17B1386-FFBB-47EB-B82C-3A00F34440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690F0B-1B7B-4BAA-8BD4-3A27F59F526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6AB7BB5-1E30-4622-9E64-BE3F3879DF1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re’s another: Reading score &amp; shoe size are positively correlated. </a:t>
            </a: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1-04-07T09:03:10Z</dcterms:modified>
  <cp:revision>292</cp:revision>
  <dc:subject/>
  <dc:title>REGRESSION ANALYSIS</dc:title>
</cp:coreProperties>
</file>